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8811"/>
        <c:axId val="53126720"/>
      </c:barChart>
      <c:catAx>
        <c:axId val="64528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6720"/>
        <c:crosses val="autoZero"/>
        <c:auto val="1"/>
        <c:lblAlgn val="ctr"/>
        <c:lblOffset val="100"/>
        <c:noMultiLvlLbl val="0"/>
      </c:catAx>
      <c:valAx>
        <c:axId val="53126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8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3F2-D265-4A22-8387-F8FFE4E3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9AB-8E25-41E4-9A1A-F723A5F3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265-FCA6-40AC-9336-7B76C809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051-E3A7-4C9C-91EE-273B81FD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643-7016-499E-8437-2DEB939A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73C-25DA-4864-96DD-E38151D0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24C-873D-493C-8E51-C6EAC60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E18-5EB1-41B0-95FE-F861F0D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67E-ED9F-4AFF-97DC-5637A2D5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763-90A4-451F-B38E-C261A01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02A-2DC5-4DB6-8A73-965973A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E90-57C1-4A39-B47E-B19E9C6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D6A64-121B-4CD7-9F1F-A5DA0483E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