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349636"/>
        <c:axId val="35313431"/>
      </c:barChart>
      <c:catAx>
        <c:axId val="134963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5313431"/>
        <c:crosses val="autoZero"/>
        <c:auto val="1"/>
        <c:lblAlgn val="ctr"/>
        <c:lblOffset val="100"/>
        <c:noMultiLvlLbl val="0"/>
      </c:catAx>
      <c:valAx>
        <c:axId val="3531343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34963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DDF5A-CC33-4AFF-BBE4-8B55F20C5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1296E-A44F-4699-A20A-69A07533C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CF50F-6BBD-4746-B5EA-9ECC2ABD3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95B82-A3D4-499D-90CA-4961B2978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C3738-1CF0-464A-A111-5D216D926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5D2F9-7028-45A4-BE4F-FF45A6DC1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9F7F2-89AC-4269-9539-92526CC7B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743A4-CB2D-4A3C-B181-CFA264424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E9221-A2FB-4CA8-92E1-38110F3EF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C4C73-9EE1-4977-9BA3-084DDCE0C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718DC-4088-432F-9853-9DD8C5BDD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607CD-AA22-40AB-AE21-E4ED75F58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EBC82C-CE01-4E88-B3A9-7DBFAF4E6D1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