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42791"/>
        <c:axId val="70115558"/>
      </c:barChart>
      <c:catAx>
        <c:axId val="8142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15558"/>
        <c:crosses val="autoZero"/>
        <c:auto val="1"/>
        <c:lblAlgn val="ctr"/>
        <c:lblOffset val="100"/>
        <c:noMultiLvlLbl val="0"/>
      </c:catAx>
      <c:valAx>
        <c:axId val="701155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2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9D3-3D80-4B47-8F9D-CA040597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B45C-0EC8-4F98-8CDB-773DF0AE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06CD-1151-4C46-A5C6-7DE2C8B2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035-E16C-49E0-95E4-3EB219FA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5D0-5AF2-4576-9480-E59936E0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A14-E5C2-431D-8A59-408062C7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6E8-F81B-41EB-92D6-21A26EB9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3C31-12AA-475B-87BA-6E686664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D9B-66A8-4749-8269-D4B453BB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9073-D012-4E77-B1A6-F2FD226E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E04-0256-404E-A973-97B73A46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BA6-4092-4A51-9B05-1829C6F6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D4DB58-71EC-4D97-9345-EC7F157FBC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